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FCD9-2F4B-46A0-B0B7-70B474A4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F9E1-C621-4133-AD55-A5747C2C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5F49-FE6F-4066-A306-99B7F1D6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F01C-D469-48ED-ADD1-BA33FB33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CA4F-92CA-4A61-B93D-42B74081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9AA4-AB5F-4FA3-BFDB-18BF3F3D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E0E1-5FFC-4A98-9AE4-A86CD30A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3484-2BDF-4CDD-A64F-EC755FD9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8EDB-6A07-4FF0-B413-CE9140FC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25FB-BC4A-44EB-BF1F-546F45FF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FA67-B1F3-4F59-B3A1-330D8959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E106-CD76-4F38-9DCB-BA9C30DF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4912-27F3-4069-BF10-94B471D82AA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250920" y="44280"/>
            <a:ext cx="2625480" cy="2737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2876400" y="44280"/>
            <a:ext cx="2957760" cy="2505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3"/>
          <a:stretch/>
        </p:blipFill>
        <p:spPr>
          <a:xfrm>
            <a:off x="5842080" y="44280"/>
            <a:ext cx="2414520" cy="2330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4"/>
          <a:stretch/>
        </p:blipFill>
        <p:spPr>
          <a:xfrm>
            <a:off x="57240" y="3068640"/>
            <a:ext cx="2160360" cy="2476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5"/>
          <a:stretch/>
        </p:blipFill>
        <p:spPr>
          <a:xfrm>
            <a:off x="2217600" y="3841920"/>
            <a:ext cx="2143440" cy="2442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6"/>
          <a:stretch/>
        </p:blipFill>
        <p:spPr>
          <a:xfrm>
            <a:off x="4348080" y="2982960"/>
            <a:ext cx="2549520" cy="2649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7"/>
          <a:stretch/>
        </p:blipFill>
        <p:spPr>
          <a:xfrm>
            <a:off x="7035840" y="3841920"/>
            <a:ext cx="2108160" cy="2654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8"/>
          <a:stretch/>
        </p:blipFill>
        <p:spPr>
          <a:xfrm>
            <a:off x="6770520" y="3776760"/>
            <a:ext cx="232740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5T18:11:22Z</dcterms:created>
  <dc:creator>Luffi</dc:creator>
  <dc:description/>
  <dc:language>en-US</dc:language>
  <cp:lastModifiedBy>Luffi</cp:lastModifiedBy>
  <dcterms:modified xsi:type="dcterms:W3CDTF">2014-10-05T18:46:43Z</dcterms:modified>
  <cp:revision>4</cp:revision>
  <dc:subject/>
  <dc:title>Presentación de PowerPoint</dc:title>
</cp:coreProperties>
</file>